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C798-8ECA-4EE5-9FDB-24097BC0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3EF-D998-457A-975F-5387C9C0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73D-FD49-4D31-B384-448CEA20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6F2-4DCE-402D-9E2B-AA125D97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B098D-3CE8-44ED-BC85-7BB58DA7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8A46-7BFE-4619-87D2-1B66CC7F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0B5E-4317-4F62-9789-2DC9F778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F3C7-9A73-4ED4-B477-6D4AC456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3707-BB23-46F2-B20C-71FFF737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CCBF-4FC8-450A-9988-1DF2AEA3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1114-3320-4F6E-9D7E-93FFB814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C8B-CBA4-4BEF-AEAA-B721503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8AA3-D635-4E78-BB85-94326B9C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699C-E78D-48CD-93DF-A4F6736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0EA0-598C-49CB-8D7B-5FFC20A3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DEC9-4C84-4326-AC87-0AD4C182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1939-6B23-405A-9923-FBC2E17C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83D29-20E9-44A5-9FA7-A0425EE8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9100C-34E3-4E56-B5F0-9E1688EC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FC87-6FF1-4C34-9C1D-59C61F2A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FB4BE-A921-4FFF-ABA7-7C44FBD2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E3485-D13A-4BCC-951F-153EB8E8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D10-8A9A-4ACE-8A85-5AFDAB2B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23485-7906-446F-BEA8-9C7FAE9A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5069-F8EA-4C16-87FA-1A248B5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BE35-21AF-41D4-B1FE-8604A8B3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03FC8-CB07-49DF-9892-E06A83C3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EE6B-19DB-43F0-98F9-9E5BA893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68C8A-D3F8-433C-B5D1-C8F36D00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8E696-2B35-4C2B-888D-B46873B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5270D-4DEA-4B71-8027-00C5D488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D6B68-23FF-43BA-B890-CE0AF0FB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15C4B-0E06-422B-9AA4-122BCB05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28D-3EE2-4917-B607-C6F741A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CAE8A-0A03-4347-94F7-DD4C51EF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57777-0261-4F68-8FB8-D29B56E8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A292-957D-4073-81C2-85165DAB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0A1D6-39E2-4EA9-AAAC-B39C326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CB5B9-5BDB-4757-A275-11365BF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66FBC-8D9C-4CB5-A15D-1867C3F2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816F-9718-47D5-A4BD-C37D0C22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C43E0-835F-4DD9-B4A5-8B814BCA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8D7AA-72A6-4764-92A3-18E7AABB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A9FF7-0A90-4B1D-A0B7-A7F0EF3E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93A-A177-4C88-9C46-B10DD0C9A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CF7DD-3A0E-4180-850B-1FBBBA60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E100-ECC6-4BCC-B5C9-960A6939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47497-BB52-4E6B-8AAE-2691D9C9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3595D-EF8C-42F0-BB73-B7BEE893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151AD-184B-45AE-BF55-64A712A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0C90-CA00-461B-8B0C-418B9F4B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B01B0-4124-41E2-8301-BB76403A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3B384-1A3B-454C-A3DE-63FBF4F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4E1E-F53F-4804-9907-A46C002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4D708-75D2-4F94-A6F1-590082A0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BF3-138F-4E2B-AEEF-54BAC84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F032-7FD1-4781-BE6B-10628AAA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5C579-5F6E-4F85-B1D5-473957D1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DAFBF-44DE-47A7-84DC-DCCED21D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7595C-3039-4CCE-9596-3396A456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FA6F0-7CAB-4862-A013-9042AF3D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11E6-191D-43F4-AAB7-11751543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0C061-A222-42C1-BA6D-635AE036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6878-2702-4A82-9DE0-62FBB611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4ECE5-7174-430F-A1FC-F81CC45B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9E7BC-F582-4B84-A10B-26EA671E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4E3-3CB3-42F2-8C02-6BF106FD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A168-417B-46B5-A246-104A6790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87CAE-0855-4AD1-B3AF-28D0A2FB7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4C42-26DE-47E2-8318-68F97458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ACB6D-F2C8-4797-933E-F1CE2E4D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7657C-95A4-456B-806E-414E6316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269BF-6E17-4C66-99B4-16E6272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FE32A-6F0C-43E4-9912-9295AD79F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C989-CEC6-4E76-8187-1A336517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B30A7-6ADE-4E7E-A07E-C1B7A05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968E-7B1D-47F7-9CD4-857B196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CA5-FBAA-4679-89BF-157CA94C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28535-B815-4A4D-9A19-DCA96BE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5784-5AFE-4290-AA1D-C6071B9C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164DD-E571-4FB9-A106-3392E918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320DB-8EF9-4823-A710-020498036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04BBC-5A19-432F-BCAD-16BFF40C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90C7D-55B8-4037-B765-B41A0C23D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FF509-BE62-4657-98A1-29343B93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B5147-A86E-4360-9288-A82E0FF7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F5409-C9DD-44DE-98E1-2C0E3B1C3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3ACBD-A970-46A9-87F0-8BD24E6D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A55-CD6C-4789-A41C-BADAB95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FF36E-7916-4B1A-9C2C-C4469470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EB771-E968-4773-BCC9-1EFAE700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47FD7-3FD0-4DB0-98B9-BCC89997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51E81-3303-4337-BB17-8D7A509F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7EC55-D3D7-43DE-9346-59B7BFB0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F503C-0310-43C8-BF7B-ECDFFE14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30F17-BF29-4657-8AD1-F4E04A2B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368E-FA99-4E33-8176-10295A7BF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570A-114A-4F09-9688-5B64B1F1937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AB1-7048-4927-972C-00BAE696A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F63E-84B7-4743-B0B7-8FD97EABB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CF73-2252-4B15-B2B0-D59F8157C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64CB-17C1-45D4-881D-F391E740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F87-6C6A-4EF3-B0F3-2213953C5F3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70CA-70D6-498B-8C8A-2ECEEDCC5C9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479080" cy="4194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371600" y="498600"/>
            <a:ext cx="647712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"/>
          <p:cNvSpPr/>
          <p:nvPr/>
        </p:nvSpPr>
        <p:spPr>
          <a:xfrm>
            <a:off x="1447920" y="1028880"/>
            <a:ext cx="609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kil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. Accomplished educational leaders continuously cultivate their understanding of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adership and the change process to meet high levels of performance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Leadership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. Accomplished educational leaders have a clear vision and inspire and engag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takeholders in developing and realizing the mission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Vision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. Accomplished educational leaders manage and leverage systems and proce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o achieve desired result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Management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"/>
          <p:cNvSpPr/>
          <p:nvPr/>
        </p:nvSpPr>
        <p:spPr>
          <a:xfrm>
            <a:off x="1371600" y="1444680"/>
            <a:ext cx="6248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Applica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. Accomplished educational leaders act with a sense of urgency to foster a cohesiv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ulture of learning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Cultur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5. Accomplished educational leaders are committed to student and adult learner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d to their development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Learners and Learning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6. Accomplished educational leaders drive, facilitate and monitor the teaching 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earning proces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Instruction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914400" y="99072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Disposition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7. Accomplished educational leaders model professional, ethical behavior and expec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t from others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Ethic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8. Accomplished educational leaders ensure equitable learning opportunities and hig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xpectations for all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Equity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9. Accomplished educational leaders advocate on behalf of their schools, commun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d profession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Advocacy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Copyright © 2009 NBPTS. All Rights Reserved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9:58:51Z</dcterms:created>
  <dc:creator>Owner</dc:creator>
  <dc:description/>
  <dc:language>en-US</dc:language>
  <cp:lastModifiedBy>Owner</cp:lastModifiedBy>
  <dcterms:modified xsi:type="dcterms:W3CDTF">2010-10-06T20:03:33Z</dcterms:modified>
  <cp:revision>1</cp:revision>
  <dc:subject/>
  <dc:title>National Board Core Propositions for Accomplished Educational Leaders™ </dc:title>
</cp:coreProperties>
</file>